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gif" ContentType="image/gif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CC05-F91C-4ECB-B561-CE46DDC92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2EE4-46B3-477B-8325-9F32213A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7997-91CF-441A-8917-6506E63C2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676A-2EFA-420E-B958-D06541F9E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245A-7D1A-4D64-AA4C-BC040026F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4ACE-274C-4CC2-94F2-E941EFDB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8C8B-6B1C-4E5B-86CE-7A8D06F8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6C90-8C38-4DD8-8723-00C9317C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AE8A-1C37-48CC-81E1-5B3B9ACF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21FB-7340-46B7-8131-D8C8806E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3FA0-3998-465D-A7E2-417D709B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EE9C-C677-4D2D-8AD7-C6D19161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2226-99DA-4E89-BE9F-96E664A7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9BD0-1411-4234-A32F-8C26BA43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71CA-8558-4C9A-8139-72790CA4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C398-9C0F-4E40-B738-E2698FEAF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2054-14B0-4E18-8949-3D45D5BF6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1DCAB-7F54-4FCF-A6AB-FA8D00DE2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41B04-6104-44CA-A711-52529441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E169D-13EB-4285-832B-6471B9D1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45FF3-431B-4DBE-BFA6-8A51677E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98688-C700-47E4-9B97-50ACA9CC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970E-568E-4D46-8C63-D6DA53E4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1B021-EBBD-4B06-A35F-6D8B9D25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ABE9F-C92D-4D7D-80F6-73A0B9CC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74AD4-CA10-4336-9685-E00FF807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7570F-431A-4946-82FF-C21841AE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9B553-E6D7-42B2-8BDB-34659893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A751D-23C0-4B71-9203-2C46D57E2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758B3-4FC6-4B81-BC15-3D6283DCC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6C0A7-33EB-4735-BB62-5F2F67406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26E51-97BF-4A7C-B8C9-2A370A24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61741-EDD6-425F-A1A1-2C21BBC1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8712-E12E-4B6B-8BC0-E877328A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9227C-D80D-42CE-B46B-8D9AF0C2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F6E4D-9701-4958-BA43-DA7F684C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DE88F-E07E-4D40-A69A-16A58DBE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D398A-19FC-4A51-BC75-F7E7C0EC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E701C-F3B0-4EC9-A105-67EF902D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CA358-1557-4CFC-A040-FC3E02FD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D0936-485C-4C2B-B0EA-2971D921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F5C19-9B46-441F-A707-4AF9BFBBA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8F094-D775-401D-A3B8-544106682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24F0-DD8D-4E35-94E7-9C7FBDD3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617B-F228-405B-BE93-111CFDFD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7B13-DD83-4536-B705-8DB52CC7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F17C-8E80-4994-87F5-181098DE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4A4E-7414-4EA0-BBA4-66B9C859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1CCB-D875-4802-B8C1-821D405D540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5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315E-FFC2-4045-BE62-75DBC56A0FD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38D6-4E77-4FDA-A3B2-B0379030C42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C1C4-BF4D-499A-96A7-5C1FA87B91D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88320" cy="1847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ыполнила студентка 636 группы Горбунова Н.А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83763"/>
                </a:solidFill>
                <a:latin typeface="Calibri"/>
              </a:rPr>
              <a:t>Моллюски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 тип моллюски)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Моллюск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типичные водные животны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Строение тела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ловищный мешоче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г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Питание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ния и микроскопические животные; растительные и животные остатк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Среда обитания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еные и пресноводные воды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83763"/>
                </a:solidFill>
                <a:latin typeface="Calibri"/>
              </a:rPr>
              <a:t>Насекомые 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(</a:t>
            </a:r>
            <a:r>
              <a:rPr b="0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тип Членистоногие, класс Насекомые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684e"/>
                </a:solidFill>
                <a:latin typeface="Constantia"/>
              </a:rPr>
              <a:t>Насекомые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– самый многочисленный класс на Земл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684e"/>
                </a:solidFill>
                <a:latin typeface="Constantia"/>
              </a:rPr>
              <a:t>Строение тела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олов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руд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рюшк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ело покрыто прочным хитиновым покров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684e"/>
                </a:solidFill>
                <a:latin typeface="Constantia"/>
              </a:rPr>
              <a:t>Питание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знообразн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3" descr="D:\натташа\картинки\Для презентаций\Насекомые\Ползающие\ANTHILL.jpg"/>
          <p:cNvPicPr/>
          <p:nvPr/>
        </p:nvPicPr>
        <p:blipFill>
          <a:blip r:embed="rId1"/>
          <a:stretch/>
        </p:blipFill>
        <p:spPr>
          <a:xfrm>
            <a:off x="7643880" y="7858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D:\натташа\картинки\Для презентаций\Насекомые\Летающие\YELLOWJA.jpg"/>
          <p:cNvPicPr/>
          <p:nvPr/>
        </p:nvPicPr>
        <p:blipFill>
          <a:blip r:embed="rId2"/>
          <a:stretch/>
        </p:blipFill>
        <p:spPr>
          <a:xfrm>
            <a:off x="7643880" y="53578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1" descr="D:\натташа\картинки\Для презентаций\Насекомые\Летающие\FLYIN003.jpg"/>
          <p:cNvPicPr/>
          <p:nvPr/>
        </p:nvPicPr>
        <p:blipFill>
          <a:blip r:embed="rId3"/>
          <a:stretch/>
        </p:blipFill>
        <p:spPr>
          <a:xfrm>
            <a:off x="857160" y="2928960"/>
            <a:ext cx="1857600" cy="1428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83763"/>
                </a:solidFill>
                <a:latin typeface="Calibri"/>
              </a:rPr>
              <a:t>Жуки </a:t>
            </a:r>
            <a:br>
              <a:rPr sz="4500"/>
            </a:br>
            <a:r>
              <a:rPr b="0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тип Членистоногие, класс Насекомые, отряд Жесткокрылые, или Жуки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Жук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чень большой и разнообразный отряд Насекомы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Строение тела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голове – ротовой аппарат, глаза ,усик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груди – три пары членистых конечностей и две пары крылье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ги – роющие, бегающие или плавающи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итание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части растен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Среда обитания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, листья, почва, корень, ствол дерева,  плод, цветок, семен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2" descr="D:\натташа\картинки\Для презентаций\Насекомые\Ползающие\COCKROAC.jpg"/>
          <p:cNvPicPr/>
          <p:nvPr/>
        </p:nvPicPr>
        <p:blipFill>
          <a:blip r:embed="rId1"/>
          <a:stretch/>
        </p:blipFill>
        <p:spPr>
          <a:xfrm>
            <a:off x="6429240" y="3571920"/>
            <a:ext cx="2143440" cy="1857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83763"/>
                </a:solidFill>
                <a:latin typeface="Calibri"/>
              </a:rPr>
              <a:t>Амфибии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тип Хордовые, подтип Позвоночные, класс Амфибии, или Земноводные, отряд Бесхвостые, род лягушки, род Жабы)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2142720"/>
            <a:ext cx="8229600" cy="41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09" name="Скругленный прямоугольник 3"/>
          <p:cNvGrpSpPr/>
          <p:nvPr/>
        </p:nvGrpSpPr>
        <p:grpSpPr>
          <a:xfrm>
            <a:off x="712800" y="2610000"/>
            <a:ext cx="2432160" cy="3571560"/>
            <a:chOff x="712800" y="2610000"/>
            <a:chExt cx="2432160" cy="3571560"/>
          </a:xfrm>
        </p:grpSpPr>
        <p:pic>
          <p:nvPicPr>
            <p:cNvPr id="210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712800" y="2610000"/>
              <a:ext cx="2432160" cy="35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896760" y="2754360"/>
              <a:ext cx="2063880" cy="32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00cc"/>
                  </a:solidFill>
                  <a:latin typeface="Constantia"/>
                </a:rPr>
                <a:t>Безног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00cc"/>
                  </a:solidFill>
                  <a:latin typeface="Constantia"/>
                </a:rPr>
                <a:t>(Амфибии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nstantia"/>
                </a:rPr>
                <a:t>Похожи на Змей. нет конечностей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nstantia"/>
                </a:rPr>
                <a:t>По строению кожи, способу размножения и дыхания они являются Земноводными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Скругленный прямоугольник 7"/>
          <p:cNvGrpSpPr/>
          <p:nvPr/>
        </p:nvGrpSpPr>
        <p:grpSpPr>
          <a:xfrm>
            <a:off x="3352680" y="2610000"/>
            <a:ext cx="2438640" cy="3571560"/>
            <a:chOff x="3352680" y="2610000"/>
            <a:chExt cx="2438640" cy="3571560"/>
          </a:xfrm>
        </p:grpSpPr>
        <p:pic>
          <p:nvPicPr>
            <p:cNvPr id="213" name="Скругленный 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3352680" y="2610000"/>
              <a:ext cx="2438640" cy="35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3540240" y="2754360"/>
              <a:ext cx="2063520" cy="32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00cc"/>
                  </a:solidFill>
                  <a:latin typeface="Constantia"/>
                </a:rPr>
                <a:t>Хвостат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00cc"/>
                  </a:solidFill>
                  <a:latin typeface="Constantia"/>
                </a:rPr>
                <a:t>( Тритоны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nstantia"/>
                </a:rPr>
                <a:t>Легко живут в неволе. Но требуют к себе очень большого внимания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Скругленный прямоугольник 8"/>
          <p:cNvGrpSpPr/>
          <p:nvPr/>
        </p:nvGrpSpPr>
        <p:grpSpPr>
          <a:xfrm>
            <a:off x="5999040" y="2610000"/>
            <a:ext cx="2432160" cy="3571560"/>
            <a:chOff x="5999040" y="2610000"/>
            <a:chExt cx="2432160" cy="3571560"/>
          </a:xfrm>
        </p:grpSpPr>
        <p:pic>
          <p:nvPicPr>
            <p:cNvPr id="216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5999040" y="2610000"/>
              <a:ext cx="2432160" cy="35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6183360" y="2754360"/>
              <a:ext cx="2063880" cy="32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00cc"/>
                  </a:solidFill>
                  <a:latin typeface="Constantia"/>
                </a:rPr>
                <a:t>Бесхвостые (Лягушки и Жабы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nstantia"/>
                </a:rPr>
                <a:t>Рекомендуется знакомить детей этим отрядом подробно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Рептилии</a:t>
            </a: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0" lang="ru-RU" sz="2900" spc="-1" strike="noStrike">
                <a:solidFill>
                  <a:srgbClr val="04617b"/>
                </a:solidFill>
                <a:latin typeface="Calibri"/>
              </a:rPr>
              <a:t>( пресмыкающиеся)</a:t>
            </a:r>
            <a:br>
              <a:rPr sz="29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отряда: Змеи, Ящерицы, Крокодилы, Черепахи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Черепахи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(тип Хордовые, подтип Позвоночные, класс Рептилии, или Пресмыкающиеся, отряд Черепахи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60670"/>
                </a:solidFill>
                <a:latin typeface="Times New Roman"/>
                <a:ea typeface="Times New Roman"/>
              </a:rPr>
              <a:t>Строение тела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ловищ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вост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60670"/>
                </a:solidFill>
                <a:latin typeface="Times New Roman"/>
                <a:ea typeface="Times New Roman"/>
              </a:rPr>
              <a:t>Среда обитания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ная черепаха – степные, полупустынные регионы Средней Азии и Казахстан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отные черепахи – европейская часть России, Приморье, Кавказ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3" descr="D:\натташа\картинки\Коллекция картинок 3(Microsoft)\j0356644.gif"/>
          <p:cNvPicPr/>
          <p:nvPr/>
        </p:nvPicPr>
        <p:blipFill>
          <a:blip r:embed="rId1"/>
          <a:stretch/>
        </p:blipFill>
        <p:spPr>
          <a:xfrm>
            <a:off x="785880" y="3357720"/>
            <a:ext cx="25718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5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r>
              <a:rPr b="1" lang="ru-RU" sz="4600" spc="-1" strike="noStrike">
                <a:solidFill>
                  <a:srgbClr val="000099"/>
                </a:solidFill>
                <a:latin typeface="Times New Roman"/>
              </a:rPr>
              <a:t>Спасибо за </a:t>
            </a:r>
            <a:br>
              <a:rPr sz="4600"/>
            </a:br>
            <a:r>
              <a:rPr b="1" lang="ru-RU" sz="4600" spc="-1" strike="noStrike">
                <a:solidFill>
                  <a:srgbClr val="000099"/>
                </a:solidFill>
                <a:latin typeface="Times New Roman"/>
              </a:rPr>
              <a:t>внимание!</a:t>
            </a: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17:16:37Z</dcterms:created>
  <dc:creator>Admin</dc:creator>
  <dc:description/>
  <dc:language>en-US</dc:language>
  <cp:lastModifiedBy>Serg</cp:lastModifiedBy>
  <dcterms:modified xsi:type="dcterms:W3CDTF">2010-07-08T15:10:49Z</dcterms:modified>
  <cp:revision>5</cp:revision>
  <dc:subject/>
  <dc:title>Слайд 1</dc:title>
</cp:coreProperties>
</file>